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dt" idx="10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1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12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0DA19-51C4-473A-A2CA-F64AD898E2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0E97F-61D5-4A2E-AB14-EC5F4D1F9F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4ABFB-C876-4CB0-A631-2547584CBD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526DD-90D4-4968-9C42-B410E661E3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DEF88-81E6-4B87-A022-9DC5824101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B27F6-8E09-4380-A355-CFA8F4ECB3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C326E-2DB7-42D8-A663-69500FBBB9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58F93-7DCE-4AA4-993C-D17515F19D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EE206-44E7-4C74-BF0D-1EAB6C1F96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4280C-3AD2-4B74-B7D5-B46F4FF4C3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4BAEA-7105-4A70-A890-AFF1608323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37E5D-2CD8-4FF7-A5FE-529DAFEE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720" y="442116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8AF9-F0B1-4F93-B2EB-BCAFA0B9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5376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9243-C1FF-4D16-8380-5FC44292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7228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984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472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7228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3984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829D0-A974-4CF8-A6E1-A8266BC1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CFB6-DB35-4A17-84FE-E19EFF87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8343-16BC-4CEC-822C-4C62B81A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1BE8-FFD2-48DF-97FE-A3A550BA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1588-4712-448E-87C6-C5B58A30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F904-D60C-4AE6-B86F-B5E5F464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04720" y="503280"/>
            <a:ext cx="907272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4119-0CBD-4AD5-AAE0-463DC81F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851E-8379-4F50-8D42-BF0FB073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59E1-9A8F-4A2D-9CF8-CA522DF7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5376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CF3C-6787-43F8-B46D-836942BC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B82B-C23A-4C40-8291-6DE1AFE3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720" y="442116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2C18-1BF0-4771-9836-E75520D7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5376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89E1-70D0-4216-9D3C-25EF851E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7228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3984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72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7228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3984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B7B3-C292-4FBC-A9AB-EE3DE579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5FDA-82C9-4169-BDD9-04384131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8E16C-AF98-4880-8699-034E2F22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77F1-AD7C-4C26-A5F0-D27B5BF5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DFB8-F775-4F35-AA79-D195DFD5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50CA9-67AD-4539-AE50-A1FF8593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6A556-01DC-459D-89A9-EECE55CA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04720" y="503280"/>
            <a:ext cx="907272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F1B18-A030-4DD7-99D5-58E7D7FC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D6A9C-B57E-49E5-84E5-491D23A7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5376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8F539-DFB2-4AD8-9596-BD936CCE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C0D6-FCC3-4326-AE54-686F48BE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4720" y="442116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84C09-48F1-4CA9-882C-59FA08FD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5376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D8C7E-68AE-4DE4-93CA-CE50A5A3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7228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63984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0472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7228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63984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F840D-488C-41ED-8CD0-F4A4A3F7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8AF3A-9302-48BD-A107-00ADC92C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60BCB-CA5A-4067-8855-797FD7D8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04720" y="503280"/>
            <a:ext cx="907272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A14F8-BD04-491F-B3C3-8530CB8B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9F071-9D25-46BA-A9E5-64239299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5376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D06D-9D5A-4055-BFD1-74504ADF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E89E-900D-475E-86F7-F4523B48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3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CAC52FE6-C9DC-4AA5-B146-97EFB14520E1}" type="slidenum">
              <a:rPr b="0" lang="en-U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80360" cy="601200"/>
            <a:chOff x="0" y="0"/>
            <a:chExt cx="10080360" cy="60120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15000" cy="5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5040" y="148680"/>
              <a:ext cx="9625320" cy="302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1440" y="148680"/>
              <a:ext cx="151920" cy="155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3360" y="0"/>
              <a:ext cx="153720" cy="151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03360" y="148680"/>
              <a:ext cx="153720" cy="155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302760" y="302400"/>
              <a:ext cx="150120" cy="151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5080" y="150120"/>
              <a:ext cx="155520" cy="1519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51440" y="298800"/>
              <a:ext cx="151920" cy="151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02760" y="451080"/>
              <a:ext cx="150120" cy="150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-358920"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988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400">
              <a:spcBef>
                <a:spcPts val="87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675440" indent="-239400">
              <a:spcBef>
                <a:spcPts val="876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154600" indent="-239400">
              <a:spcBef>
                <a:spcPts val="876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154600" indent="-239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154600" indent="-239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F42E7A9-F864-47EB-B8F5-1511AA87AA1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10080360" cy="7559280"/>
            <a:chOff x="0" y="0"/>
            <a:chExt cx="10080360" cy="755928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864240" cy="75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891800" y="1863360"/>
              <a:ext cx="8188560" cy="279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175760"/>
              <a:ext cx="3160080" cy="3480120"/>
              <a:chOff x="0" y="1175760"/>
              <a:chExt cx="3160080" cy="348012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631440" y="3949200"/>
                <a:ext cx="635040" cy="706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891440" y="1863360"/>
                <a:ext cx="633240" cy="708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514600" y="1175760"/>
                <a:ext cx="645480" cy="6998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258200" y="3949200"/>
                <a:ext cx="643320" cy="70668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514600" y="1863360"/>
                <a:ext cx="645480" cy="708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258200" y="2561760"/>
                <a:ext cx="643320" cy="697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561760"/>
                <a:ext cx="641880" cy="69768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891440" y="2561760"/>
                <a:ext cx="633240" cy="697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631440" y="3249360"/>
                <a:ext cx="635040" cy="7102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258200" y="3249360"/>
                <a:ext cx="643320" cy="7102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-358920"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988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400">
              <a:spcBef>
                <a:spcPts val="87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675440" indent="-239400">
              <a:spcBef>
                <a:spcPts val="876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154600" indent="-239400">
              <a:spcBef>
                <a:spcPts val="876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154600" indent="-239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154600" indent="-239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3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9546857-825B-499D-B5FF-C701E5644B19}" type="slidenum">
              <a:rPr b="0" lang="en-U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0440" y="2617920"/>
            <a:ext cx="90662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9000" spc="-1" strike="noStrike">
                <a:solidFill>
                  <a:srgbClr val="ffffff"/>
                </a:solidFill>
                <a:latin typeface="Arial"/>
              </a:rPr>
              <a:t>Density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04720" y="228600"/>
            <a:ext cx="9072720" cy="16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What is the volume of the box?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685800" y="1371600"/>
            <a:ext cx="5257800" cy="34290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>
            <a:off x="685800" y="5029200"/>
            <a:ext cx="4343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 flipV="1">
            <a:off x="5257800" y="4114440"/>
            <a:ext cx="685800" cy="68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 flipV="1">
            <a:off x="6172200" y="1369800"/>
            <a:ext cx="1440" cy="25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828800" y="4313160"/>
            <a:ext cx="160020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5 c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257800" y="4313160"/>
            <a:ext cx="160020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c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6400800" y="2484360"/>
            <a:ext cx="251460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57200" y="5715000"/>
            <a:ext cx="914400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5 cm X 2 cm X 3 cm = 30 cm</a:t>
            </a:r>
            <a:r>
              <a:rPr b="0" lang="en-GB" sz="44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1"/>
          <p:cNvSpPr/>
          <p:nvPr/>
        </p:nvSpPr>
        <p:spPr>
          <a:xfrm flipV="1">
            <a:off x="685800" y="226800"/>
            <a:ext cx="3429000" cy="617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"/>
          <p:cNvSpPr/>
          <p:nvPr/>
        </p:nvSpPr>
        <p:spPr>
          <a:xfrm>
            <a:off x="4114800" y="228600"/>
            <a:ext cx="342756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685800" y="6400800"/>
            <a:ext cx="6856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2057400" y="38862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4114800" y="3886200"/>
            <a:ext cx="144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971800" y="3086280"/>
            <a:ext cx="114300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572000" y="3117960"/>
            <a:ext cx="1144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657600" y="4718160"/>
            <a:ext cx="91440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286000" y="4800600"/>
            <a:ext cx="182880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3657600" y="1828800"/>
            <a:ext cx="205884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5029200" y="4800600"/>
            <a:ext cx="251316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5716440" y="385920"/>
            <a:ext cx="457056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 = m / v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m = D x 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v = m / 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04720" y="228600"/>
            <a:ext cx="9072720" cy="61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Ex: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m = 2 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v = 1 cm</a:t>
            </a:r>
            <a:r>
              <a:rPr b="0" lang="en-GB" sz="49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D = 2 g/ cm</a:t>
            </a:r>
            <a:r>
              <a:rPr b="0" lang="en-GB" sz="49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Ex:  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m = 6 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v = 3 cm</a:t>
            </a:r>
            <a:r>
              <a:rPr b="0" lang="en-GB" sz="49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D = 2 g/ cm</a:t>
            </a:r>
            <a:r>
              <a:rPr b="0" lang="en-GB" sz="49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5716440" y="885960"/>
            <a:ext cx="36561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 = m / 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716440" y="3430440"/>
            <a:ext cx="41133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v =  m / 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320" y="228240"/>
            <a:ext cx="9072360" cy="70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Ex:  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m =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v = 1cm X 2cm X 4cm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D =  2 g/cm</a:t>
            </a:r>
            <a:r>
              <a:rPr b="0" lang="en-GB" sz="49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m = 16 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v =  8 cm</a:t>
            </a:r>
            <a:r>
              <a:rPr b="0" lang="en-GB" sz="49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D =  2 g/cm</a:t>
            </a:r>
            <a:r>
              <a:rPr b="0" lang="en-GB" sz="49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"/>
          <p:cNvSpPr/>
          <p:nvPr/>
        </p:nvSpPr>
        <p:spPr>
          <a:xfrm>
            <a:off x="1143000" y="2743200"/>
            <a:ext cx="8458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5486400" y="3629160"/>
            <a:ext cx="41148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m = D x 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9072720" cy="65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000000"/>
                </a:solidFill>
                <a:latin typeface="Arial"/>
              </a:rPr>
              <a:t>Density-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 the measure of how much mass is contained in a given unit of volum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Abbrev.     Ending Uni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Density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0" lang="en-GB" sz="49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Mass           m           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Volume        V           cm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316080" y="3475080"/>
            <a:ext cx="899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2830680" y="294156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5497560" y="294156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16080" y="34750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16080" y="6294600"/>
            <a:ext cx="899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9307440" y="294156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316080" y="4541760"/>
            <a:ext cx="899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316080" y="5456160"/>
            <a:ext cx="899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8"/>
          <p:cNvSpPr/>
          <p:nvPr/>
        </p:nvSpPr>
        <p:spPr>
          <a:xfrm>
            <a:off x="239760" y="274680"/>
            <a:ext cx="95248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sity Column-Think about it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 the following in order of density (from the heaviest to the lightest)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, Dawn Dish Soap, Vegetable Oil, Rubbing Alcohol, Karo Syrup, Honey and Lamp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92040" y="46080"/>
          <a:ext cx="9072720" cy="7162920"/>
        </p:xfrm>
        <a:graphic>
          <a:graphicData uri="http://schemas.openxmlformats.org/drawingml/2006/table">
            <a:tbl>
              <a:tblPr/>
              <a:tblGrid>
                <a:gridCol w="5923080"/>
                <a:gridCol w="3149640"/>
              </a:tblGrid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ty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ing Alcoho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7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 Oi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8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etable Oi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9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wn Dish Soap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Corn Syrup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ey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4125960" y="579600"/>
            <a:ext cx="56386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sity Colu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order of density for the following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, Dawn Dish Soap, Vegetable Oil, Rubbing Alcohol, Karo Syrup, Honey and Lamp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Seven Layer Density Column"/>
          <p:cNvPicPr/>
          <p:nvPr/>
        </p:nvPicPr>
        <p:blipFill>
          <a:blip r:embed="rId1"/>
          <a:stretch/>
        </p:blipFill>
        <p:spPr>
          <a:xfrm>
            <a:off x="0" y="0"/>
            <a:ext cx="362124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04720" y="456840"/>
            <a:ext cx="9072720" cy="73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To find density of an object, you need the mass and volume of the object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1.  Mass- remember to use the balanc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2.  Volume- there are 2 ways to find the volume of object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17600" y="228600"/>
            <a:ext cx="9185040" cy="66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1295280" indent="-2156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 To find the volume of a circular object use a graduated cylind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Measure some water in a graduated cy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Drop the object and reread the graduated cy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tract the two numbers....you should always have a positive numb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9072720" cy="16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"/>
          <p:cNvGrpSpPr/>
          <p:nvPr/>
        </p:nvGrpSpPr>
        <p:grpSpPr>
          <a:xfrm>
            <a:off x="-7772400" y="0"/>
            <a:ext cx="12775680" cy="5660280"/>
            <a:chOff x="-7772400" y="0"/>
            <a:chExt cx="12775680" cy="5660280"/>
          </a:xfrm>
        </p:grpSpPr>
        <p:sp>
          <p:nvSpPr>
            <p:cNvPr id="172" name="Text Box 3"/>
            <p:cNvSpPr/>
            <p:nvPr/>
          </p:nvSpPr>
          <p:spPr>
            <a:xfrm rot="16200000">
              <a:off x="2329920" y="2986920"/>
              <a:ext cx="475452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"/>
            <p:cNvSpPr/>
            <p:nvPr/>
          </p:nvSpPr>
          <p:spPr>
            <a:xfrm>
              <a:off x="-7772400" y="595080"/>
              <a:ext cx="7020360" cy="10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5" descr=""/>
            <p:cNvPicPr/>
            <p:nvPr/>
          </p:nvPicPr>
          <p:blipFill>
            <a:blip r:embed="rId1"/>
            <a:stretch/>
          </p:blipFill>
          <p:spPr>
            <a:xfrm>
              <a:off x="360360" y="0"/>
              <a:ext cx="3938040" cy="55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6"/>
            <p:cNvSpPr/>
            <p:nvPr/>
          </p:nvSpPr>
          <p:spPr>
            <a:xfrm>
              <a:off x="-7589880" y="1924920"/>
              <a:ext cx="5547240" cy="20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7"/>
          <p:cNvSpPr/>
          <p:nvPr/>
        </p:nvSpPr>
        <p:spPr>
          <a:xfrm>
            <a:off x="457200" y="5715000"/>
            <a:ext cx="91440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00 mL   260 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ter with Co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228600" y="3430440"/>
            <a:ext cx="6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2057400" y="29718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886200" y="228600"/>
            <a:ext cx="6194520" cy="57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e the volume of the co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3821040" y="2408400"/>
            <a:ext cx="62596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60 mL – 200 mL = 60 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821040" y="3551400"/>
            <a:ext cx="59421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60 mL = 60 cm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934704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19000" indent="0">
              <a:spcBef>
                <a:spcPts val="12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b.  To find the volume of a rectangular object use a ruler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lume = Length X Width X Height</a:t>
            </a: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GB" sz="44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   x  cm   x c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576360" y="3316320"/>
            <a:ext cx="4230720" cy="26146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1143000" y="3200400"/>
            <a:ext cx="3657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343400" y="5256000"/>
            <a:ext cx="685800" cy="68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5029200" y="3198960"/>
            <a:ext cx="1440" cy="183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572000" y="4114800"/>
            <a:ext cx="2057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429000" y="5057640"/>
            <a:ext cx="1371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057400" y="3200400"/>
            <a:ext cx="1371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685800" y="6172200"/>
            <a:ext cx="8915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2 cm X 1 cm x 2 cm = 4 cm</a:t>
            </a:r>
            <a:r>
              <a:rPr b="1" lang="en-GB" sz="4000" spc="-1" strike="noStrike" baseline="33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eronica Occelli</cp:lastModifiedBy>
  <dcterms:modified xsi:type="dcterms:W3CDTF">2011-11-18T02:38:21Z</dcterms:modified>
  <cp:revision>16</cp:revision>
  <dc:subject/>
  <dc:title>Density</dc:title>
</cp:coreProperties>
</file>